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02128"/>
        <c:axId val="97325941"/>
      </c:barChart>
      <c:catAx>
        <c:axId val="36502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25941"/>
        <c:crosses val="autoZero"/>
        <c:auto val="1"/>
        <c:lblAlgn val="ctr"/>
        <c:lblOffset val="100"/>
        <c:noMultiLvlLbl val="0"/>
      </c:catAx>
      <c:valAx>
        <c:axId val="973259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02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8C3-9440-4945-9CB9-F6BFEB70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C1D-FC65-4E55-AE8B-90F947BF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BFB-4076-4D3F-9B5B-49567CC4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E8A-B8A1-48A0-B358-B76853AA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717-5E33-4394-AB57-F81CE97C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0C8-F672-4DE6-A327-1FD21328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0F0-255C-457B-BC8E-2117002D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D5E-3F86-449E-BE49-2A72A5CF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11D-5058-459C-9603-674A50F2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08D-7187-4466-A12D-7206B43D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0D5B-3DBD-431A-9B88-28ABD6BF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A1C-C16E-4B1D-A09C-A7943B2D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3F445-658B-4D87-99C0-8C6D56CC10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