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52753"/>
        <c:axId val="50602434"/>
      </c:barChart>
      <c:catAx>
        <c:axId val="23052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2434"/>
        <c:crosses val="autoZero"/>
        <c:auto val="1"/>
        <c:lblAlgn val="ctr"/>
        <c:lblOffset val="100"/>
        <c:noMultiLvlLbl val="0"/>
      </c:catAx>
      <c:valAx>
        <c:axId val="50602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2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B94-11D8-4237-9D1B-8C2129B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8DF-70C4-49E1-A5A4-B5446C40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8E2-F33C-475C-BF83-ED155A3F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77B-5766-409B-B5FC-C3771556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A35-FBCF-42DB-943C-FB5A3FF3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007-2692-4EAC-969E-CBBF655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040-419B-4C5B-A4D7-42DE78D1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C26-D89F-4350-A091-476F83C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69B-B33D-4513-9CA3-39CC392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588-EA8B-419C-9321-6EDD822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534-A04C-4392-B7FB-A82FE29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AA4-3291-4A9F-8CFB-2563D51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3958E-697E-4897-9EB4-5B9CD08D12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