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9812"/>
        <c:axId val="3426663"/>
      </c:barChart>
      <c:catAx>
        <c:axId val="8369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6663"/>
        <c:crosses val="autoZero"/>
        <c:auto val="1"/>
        <c:lblAlgn val="ctr"/>
        <c:lblOffset val="100"/>
        <c:noMultiLvlLbl val="0"/>
      </c:catAx>
      <c:valAx>
        <c:axId val="3426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9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F4D-7337-45DB-A29F-A66270F2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EEB-BA68-4565-9BC9-14A8E419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202-DB68-479B-AC43-0A4BEEDA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CA2C-94BA-40CA-8FBA-34215110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4495-93EE-4A4F-9FD0-AC433366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0A7-CBB9-4A86-B4F0-4832E699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58F-3AC8-4104-87EC-DBCBF3EF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8DB2-F082-47C6-8DCC-4FFE05DF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9D0-9566-483E-97DB-0616E7FE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AE2-1E5E-4CF5-8A31-5111FD5C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5AF-FD75-476D-A4C8-BEA000B1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97F-90FB-4886-96E2-EFE4C6CF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88CD6-FC7F-446B-AD70-D8F7C1F1E3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