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109233"/>
        <c:axId val="2429787"/>
      </c:barChart>
      <c:catAx>
        <c:axId val="751092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29787"/>
        <c:crosses val="autoZero"/>
        <c:auto val="1"/>
        <c:lblAlgn val="ctr"/>
        <c:lblOffset val="100"/>
        <c:noMultiLvlLbl val="0"/>
      </c:catAx>
      <c:valAx>
        <c:axId val="24297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92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2F8-6D3A-4579-AAC5-F882CF99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CFA4-7DC4-426F-841C-C7B9169E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1BF-97A9-4846-A412-3C728BD44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53F6-E423-456E-BCFB-717B1FAA5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B273-5576-4A5E-B112-8F344C58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AC26-321D-418B-9C4A-3E370B31E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12A60-7C24-4A72-9526-A2E23FBF1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3A43-3C2D-4636-9972-B1AAAFEAB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3669-84B9-4B38-B82B-E6B1DDF0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21C5-2ABE-43C3-AEE9-43B1A305B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9C53-C4B9-45EC-A3A4-19B1BD8F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B906-7C29-436E-9FD5-F55DBCB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F14AC9-A0E6-4A63-9B7A-0BEC1F6993A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