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8003"/>
        <c:axId val="76871005"/>
      </c:barChart>
      <c:catAx>
        <c:axId val="1178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71005"/>
        <c:crosses val="autoZero"/>
        <c:auto val="1"/>
        <c:lblAlgn val="ctr"/>
        <c:lblOffset val="100"/>
        <c:noMultiLvlLbl val="0"/>
      </c:catAx>
      <c:valAx>
        <c:axId val="76871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8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7E5-DE05-4722-841A-86AB1060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D12-4C2D-4C42-8F9B-5610662A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555-D315-4F80-9E58-E488AF60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C3B-B7F3-4E80-AB05-13EB4BB4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BA2-2F66-48A9-A2F7-3A5D21F3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3B7-C142-48F4-A15B-F765BF1F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640-B71C-41A8-991F-3A0E9A8B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E00-65B2-4BE5-B538-FA4CFFE6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30A-9075-4A37-B344-F6DB6376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5C1-3B56-415C-8899-16BCB16C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707-5621-4073-880D-F279DD14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CAE-A793-47B6-B655-8EEA6C7C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55135-BE9B-4BE4-BEDB-ABE5980592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